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901-985B-44B7-946F-1BBA62BB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7FF-05C2-4DBC-9157-09B6D0E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C1D-4097-4161-B367-02DE976E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2C3-B04A-4415-9DEF-7758D05F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8AC-92C1-4BFE-8271-63BBE4EB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B0D-549F-4BE2-B8CF-491CC919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DFC-EC40-4E48-A1C3-EB232108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765-B0B1-4884-88D7-8F14EEC7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2C9-64D2-4C07-99AC-2F3E380E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046-504D-4304-A27E-57FBCE1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E0E-5337-47A0-9C45-EA4B835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CE2-FBC9-4A1C-9C69-6D82DE9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2CFD-BF63-46D2-8FF0-4450038A2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05320" y="380880"/>
            <a:ext cx="205740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38280" y="396252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A girl named disaster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ichael Ful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05320" y="2209680"/>
            <a:ext cx="2057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>
            <a:off x="2514600" y="457200"/>
            <a:ext cx="380988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088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Shelter</a:t>
            </a:r>
            <a:endParaRPr b="0" lang="en-US" sz="2400" spc="1" strike="noStrike">
              <a:ln w="9360">
                <a:solidFill>
                  <a:srgbClr val="0000cc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-349200" y="2971800"/>
          <a:ext cx="9493200" cy="656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49200" y="2971800"/>
                    <a:ext cx="949320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819520" y="1371600"/>
            <a:ext cx="31334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52280" y="4429080"/>
            <a:ext cx="18766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133720" y="47242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724280" y="4724280"/>
            <a:ext cx="2419560" cy="182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210440" y="426708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2280" y="1143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1240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095880" y="1066680"/>
            <a:ext cx="2495520" cy="183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2362320" y="3697200"/>
            <a:ext cx="4267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2381400" y="304920"/>
            <a:ext cx="4095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 Fa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2819520"/>
            <a:ext cx="8362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4d4d4d"/>
                </a:solidFill>
                <a:latin typeface="Arial Black"/>
              </a:rPr>
              <a:t>In africa many of the kids there do not get to participate in school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4d4d4d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4114800"/>
            <a:ext cx="8362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4d4d4d"/>
                </a:solidFill>
                <a:latin typeface="Arial Black"/>
              </a:rPr>
              <a:t>Four of the five fastest land animals live in africa, which is the cheetah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4d4d4d"/>
              </a:solid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895480" y="4483080"/>
            <a:ext cx="3171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 txBox="1"/>
          <p:nvPr/>
        </p:nvSpPr>
        <p:spPr>
          <a:xfrm>
            <a:off x="2200320" y="343080"/>
            <a:ext cx="43527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bliograph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1598760" y="2209680"/>
            <a:ext cx="592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pwork.com/africa-funstuff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819520"/>
            <a:ext cx="7772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oodbycountry.com/Kazakhstan-to-South-Africa/South-Afric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1600" y="3886200"/>
            <a:ext cx="425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frikaworld.net/afre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1:35:55Z</dcterms:created>
  <dc:creator>Jauna LEE FULTZ</dc:creator>
  <dc:description/>
  <dc:language>en-US</dc:language>
  <cp:lastModifiedBy>Jauna LEE FULTZ</cp:lastModifiedBy>
  <dcterms:modified xsi:type="dcterms:W3CDTF">2010-11-06T02:22:59Z</dcterms:modified>
  <cp:revision>3</cp:revision>
  <dc:subject/>
  <dc:title>By Michael Fultz</dc:title>
</cp:coreProperties>
</file>